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3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7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1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theme/theme15.xml" ContentType="application/vnd.openxmlformats-officedocument.theme+xml"/>
  <Override PartName="/ppt/theme/theme16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7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23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</p:sldMasterIdLst>
  <p:notesMasterIdLst>
    <p:notesMasterId r:id="rId33"/>
  </p:notesMasterIdLst>
  <p:sldIdLst>
    <p:sldId id="256" r:id="rId34"/>
    <p:sldId id="257" r:id="rId35"/>
    <p:sldId id="258" r:id="rId36"/>
    <p:sldId id="259" r:id="rId37"/>
    <p:sldId id="260" r:id="rId38"/>
    <p:sldId id="261" r:id="rId39"/>
    <p:sldId id="262" r:id="rId40"/>
    <p:sldId id="263" r:id="rId41"/>
    <p:sldId id="264" r:id="rId42"/>
    <p:sldId id="265" r:id="rId43"/>
    <p:sldId id="266" r:id="rId44"/>
    <p:sldId id="267" r:id="rId45"/>
    <p:sldId id="268" r:id="rId46"/>
    <p:sldId id="269" r:id="rId47"/>
    <p:sldId id="270" r:id="rId48"/>
    <p:sldId id="271" r:id="rId49"/>
    <p:sldId id="272" r:id="rId50"/>
    <p:sldId id="273" r:id="rId51"/>
    <p:sldId id="27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notesMaster" Target="notesMasters/notesMaster1.xml"/><Relationship Id="rId34" Type="http://schemas.openxmlformats.org/officeDocument/2006/relationships/slide" Target="slides/slide1.xml"/><Relationship Id="rId35" Type="http://schemas.openxmlformats.org/officeDocument/2006/relationships/slide" Target="slides/slide2.xml"/><Relationship Id="rId36" Type="http://schemas.openxmlformats.org/officeDocument/2006/relationships/slide" Target="slides/slide3.xml"/><Relationship Id="rId37" Type="http://schemas.openxmlformats.org/officeDocument/2006/relationships/slide" Target="slides/slide4.xml"/><Relationship Id="rId38" Type="http://schemas.openxmlformats.org/officeDocument/2006/relationships/slide" Target="slides/slide5.xml"/><Relationship Id="rId39" Type="http://schemas.openxmlformats.org/officeDocument/2006/relationships/slide" Target="slides/slide6.xml"/><Relationship Id="rId40" Type="http://schemas.openxmlformats.org/officeDocument/2006/relationships/slide" Target="slides/slide7.xml"/><Relationship Id="rId41" Type="http://schemas.openxmlformats.org/officeDocument/2006/relationships/slide" Target="slides/slide8.xml"/><Relationship Id="rId42" Type="http://schemas.openxmlformats.org/officeDocument/2006/relationships/slide" Target="slides/slide9.xml"/><Relationship Id="rId43" Type="http://schemas.openxmlformats.org/officeDocument/2006/relationships/slide" Target="slides/slide10.xml"/><Relationship Id="rId44" Type="http://schemas.openxmlformats.org/officeDocument/2006/relationships/slide" Target="slides/slide11.xml"/><Relationship Id="rId45" Type="http://schemas.openxmlformats.org/officeDocument/2006/relationships/slide" Target="slides/slide12.xml"/><Relationship Id="rId46" Type="http://schemas.openxmlformats.org/officeDocument/2006/relationships/slide" Target="slides/slide13.xml"/><Relationship Id="rId47" Type="http://schemas.openxmlformats.org/officeDocument/2006/relationships/slide" Target="slides/slide14.xml"/><Relationship Id="rId48" Type="http://schemas.openxmlformats.org/officeDocument/2006/relationships/slide" Target="slides/slide15.xml"/><Relationship Id="rId49" Type="http://schemas.openxmlformats.org/officeDocument/2006/relationships/slide" Target="slides/slide16.xml"/><Relationship Id="rId50" Type="http://schemas.openxmlformats.org/officeDocument/2006/relationships/slide" Target="slides/slide17.xml"/><Relationship Id="rId51" Type="http://schemas.openxmlformats.org/officeDocument/2006/relationships/slide" Target="slides/slide18.xml"/><Relationship Id="rId52" Type="http://schemas.openxmlformats.org/officeDocument/2006/relationships/slide" Target="slides/slide19.xml"/><Relationship Id="rId5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6" name="PlaceHolder 2"/>
          <p:cNvSpPr>
            <a:spLocks noGrp="1"/>
          </p:cNvSpPr>
          <p:nvPr>
            <p:ph type="dt" idx="9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9" name="PlaceHolder 5"/>
          <p:cNvSpPr>
            <a:spLocks noGrp="1"/>
          </p:cNvSpPr>
          <p:nvPr>
            <p:ph type="ftr" idx="9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0" name="PlaceHolder 6"/>
          <p:cNvSpPr>
            <a:spLocks noGrp="1"/>
          </p:cNvSpPr>
          <p:nvPr>
            <p:ph type="sldNum" idx="9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85CAF-4832-46FC-AE6B-B9A81880931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hyperlink" Target="http://ru.wikipedia.org/wiki/1978_&#1075;&#1086;&#1076;" TargetMode="External"/><Relationship Id="rId2" Type="http://schemas.openxmlformats.org/officeDocument/2006/relationships/slide" Target="../slides/slide9.xml"/><Relationship Id="rId3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200" spc="-1" strike="noStrike">
                <a:solidFill>
                  <a:srgbClr val="ffffff"/>
                </a:solidFill>
                <a:latin typeface="Arial"/>
                <a:ea typeface="Arial"/>
              </a:rPr>
              <a:t>Андр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200" spc="-1" strike="noStrike">
                <a:solidFill>
                  <a:srgbClr val="ffffff"/>
                </a:solidFill>
                <a:latin typeface="Arial"/>
                <a:ea typeface="Arial"/>
              </a:rPr>
              <a:t>Андреевич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200" spc="-1" strike="noStrike">
                <a:solidFill>
                  <a:srgbClr val="ffffff"/>
                </a:solidFill>
                <a:latin typeface="Arial"/>
                <a:ea typeface="Arial"/>
              </a:rPr>
              <a:t>Вознесен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08107-AD8B-4D2F-9209-7F34D2D917E1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Дружба навеки»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ишинская площадь в Москв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4451F-1BA3-40F4-9DB4-C910E3A59C6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Авторы популярных эстрадных песе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на стихи Вознесенског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59A94-8181-47E7-9337-F7F5CE4A39B1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изнь в Переделкин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3C8D9-8B48-4DF7-BC52-4C3C87D6122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зидент РФ Д.А.Медведев вручает Вознесенскому Орден «За заслуги перед Отечеством» II степен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9AA5E-C196-44D0-A827-6F6AFEA6B7A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кончался 1 июня 2010 год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CFBA5-79C3-450C-AB36-B2A8B5D3247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cc66"/>
                </a:solidFill>
                <a:latin typeface="Calibri"/>
              </a:rPr>
              <a:t>Могила Андрея Андреевич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FFD91-42A5-4919-8225-E818FB73A94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Будущий поэ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Андрей Вознесен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с отцом Андре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Николаевичем 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сестрой Наталь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0FAB7-5A32-49CF-ACAE-59012EA24FA8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1957год 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оконч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Московско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архитектурно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институт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4BFB9-B94E-425D-8C8D-809DD792577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Вознесен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и его жена Зо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Богуславска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DE32F-AD56-4BAC-A4C5-BB82A224F0C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3399"/>
                </a:solidFill>
                <a:latin typeface="Arial"/>
                <a:ea typeface="Arial"/>
              </a:rPr>
              <a:t>Первые сборник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EF143-AB62-437C-B116-3E1B204C7D4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жар в Архитектурн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ылайте широк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ровники в амурах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йклубы в рокок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825E1-CAE7-4DE1-B572-AC3BE7B5792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иколай Ушаков «Модный поэт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Он сменною модой недельно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Когда-то пленял молодёж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Так что ж ты, цветок рукодельный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Сегодня не модно цветёшь?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08FB6-318A-4D94-AE21-D513480E854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200" spc="-1" strike="noStrike">
                <a:solidFill>
                  <a:srgbClr val="ffffff"/>
                </a:solidFill>
                <a:latin typeface="Arial"/>
                <a:ea typeface="Arial"/>
              </a:rPr>
              <a:t>Андрей Андреевич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200" spc="-1" strike="noStrike">
                <a:solidFill>
                  <a:srgbClr val="ffffff"/>
                </a:solidFill>
                <a:latin typeface="Arial"/>
                <a:ea typeface="Arial"/>
              </a:rPr>
              <a:t>гастролируе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60BBD-F356-449D-A82E-0A3A26BE173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несенский получил в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1978 году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Государственную премию СССР.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8FCA2-C659-46FD-B850-068AB1F2910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F81D06-8A51-4C2D-8D78-159E9A0EA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FDD3A7-E6EC-4297-8676-5670CC666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45E045-84C4-49C8-B2BF-140E30DC1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8A6068-B0C1-477B-B121-686F24BE5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0EBDF0-A442-4AAF-9276-75E61226D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042A6D-DE88-4F77-AAEA-E841838E6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2A591C-1338-4E27-AE7C-D2EDDC27F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2ADA84-5D06-4C88-A7C0-6BE2ADC5F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71F8F6-6C59-4819-A09F-024861D48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4BFABF-441D-4B63-822E-2457D40A0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6F2A4F-1644-48AE-BA2E-3A49C588F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72883C-60AA-4E08-B2C2-3F5B0A88F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B740A4-9703-441F-8E1F-87B9C3504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3CD0FB-7F75-48BD-8B17-36DBA71F0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BCE85B-E2E4-4336-B28C-89C0E8994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BF7DF2-7226-4D78-9025-7CB2DC467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654815-36ED-453D-AC49-58281C7FA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60DFC2-8639-4D91-ADF7-D94E69F8E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7B8088-7E33-4893-B988-7AE6C3322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92EC2D-85B6-43F9-880F-D8803C257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E00762-07A2-41A8-A72F-58ABCA8EA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410D37-210D-407C-83E5-041E994B8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EE69FC-7D80-44FC-A817-A96928051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559F49-E326-42F7-8CAA-03F3F4B50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DB9D36-8E9A-4A67-AFA7-ED60F1303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BA3307-6227-4DB1-A92B-105B9575B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E01AD6-471C-4CF9-ADC5-16D552F62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B009EB-D43E-454C-B19A-60239E103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FF4DA7-6C1C-4305-9F8E-95CFC38AF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584A1B-64A8-42BA-A961-397B6C5FE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69A1FB-F479-40B6-B84B-5B6F3198C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920E35-9DBE-41AC-AA52-F5717B128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CB5E60-5461-47EF-BAC2-FDC2857A5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AD86A3-B973-446A-A8F0-EF5FD17E4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8886A-CB6E-427B-AA0E-398BF0245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8E67BA-7351-4D75-9337-5F6786FBE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68250C-44D8-409B-8621-0EE292CCD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DD378C-F91F-4621-BC12-499943C7A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8FA6B2-FFDF-4BA3-BBD7-6424FE8F5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5BA091-081E-4073-9D1B-1A54AB0B3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7D7A92-A440-44EB-8772-720ED6466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0130B4-DB20-4CA5-8BEE-E7A88817A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3F09B6-14E9-42E2-8EC1-EF78FFEDD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A7EF8C-8EEB-43DB-BD42-B7E4EB5EB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AA322C-C6B2-41E5-A461-E5B6E96A7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6E242-7F0F-4A13-8BA1-877B4EDDD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0F7D3A-54A7-4C35-B993-546F96050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7F563D-2644-486C-B1C8-569E18E8D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8AB2A2-BFE1-46E3-8A6B-DE2541399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B5BA1D-63EC-4CA5-A2CC-2A62FC9BB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73F084-FC69-4382-8D03-9366E6F15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B284C1F-EE2D-4F0C-ADE6-C3E339BF5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B6336D9-D447-42FE-9FC1-E3C6ECAE7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4E020FE-17CA-4F7C-A380-386B1B84E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45FAB83-8735-4E86-8C68-AC2432DC9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4392100-12EF-466D-BEC7-E2B3C6BC8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60AEC-30F7-4720-9AB2-BC16B87C9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6C0220E-4DF2-400C-B14E-963836C4C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3E3A81C-C6E2-4ACE-B7D6-CC14964FB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7A3A1C4-8B0F-48BD-9AD6-41D33A057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A0666CD-8A4D-4BE3-89E4-405342807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B1F79C6-1EA1-4B3C-B41A-0DCEF237F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0E8C14C-69E0-4F80-A89E-D75D4AAD6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1524368-708E-45C5-806C-8362D7519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56B4F88-DD7F-4CE0-A187-926A4086F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ADC577A-FEC7-4857-BF5C-0282FA31C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5DE60A0-0303-48F5-A0C6-C7F76E91C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455B5-4A63-487B-9364-0F730AE3C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079D3BD-F9B8-4058-9195-425A340CF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59C5092-D10F-42C0-80CB-604026984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4CDEDA1-E1AB-4A5B-8472-D9A8EE49E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CDEC77D-8B7F-47C5-B7E7-4A9314EB2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FA58C93-0813-4B56-B4EB-53AB1721E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E21AB26-C7B7-44E8-91EA-D0A148C1E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06D9A03-0086-453F-BD21-7A3E12DB6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129073A-2AEC-41F8-A5DF-E27FCE97B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F47AFCC-537E-4D5A-A5C5-2336D29F9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2670C51-9BF2-4FC1-B141-7F48905A0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3B997-59EF-4922-9F19-1DC79AE9D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89CD912-81EE-48B3-8CFB-F4F60A84B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7C05596-91F7-458C-AAA7-179557E20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9F643C3-8D31-45B2-9C1B-6F428A5CC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1F4E03F-F711-404F-BBE6-003F96580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6F97417-07A9-49B6-9BFD-AD585841F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EEF2970-7BE9-44A0-81E2-B01181780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F299151-9830-42FF-85F2-75CEA46DF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14B6500-DAFA-4FFB-A207-4C5CD9AE3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1BF9BEC-6A72-425E-83EB-65A4B13F4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DEC437F-0028-49A4-938E-085CBDF93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24D16-1429-436C-B0E4-6F0FBB75E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80103D3-B34F-4CA5-AB5C-641C28F8C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C7CD604-985C-49F6-8FF2-EB6EB4661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8C8C992-F183-444A-96E1-2B72DFF4F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5309E58-2435-4CCE-94C1-DBC7C034F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41173D7-E475-4AE4-8C3B-B79129B6E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5F2E155-71AE-4FF9-B67F-85A1114A6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BEB13B6-08E0-43DF-8D50-7F4DF6B7E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51C205F-889F-4316-BB08-BB834D56B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3698F54-493B-49E5-982F-D63DC1D79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234963D-0CA4-4089-9B97-82C50DC6D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C545C-153C-4C40-BCC0-DAF2DCD4E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EB5A1A4-6265-44AE-85BF-0C42873FE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3A1F9B4-F5C3-4358-AB18-265C727B5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AEC0835-B960-4F48-B74E-10C14EEAE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E7850B8-CB6B-4143-80B1-2A2A87AE4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3813FC6-E268-4612-99C0-830DF0A51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140E927-C06B-459A-A911-C587D6A99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D2BF0A4-28F8-4081-9084-9DA0515D1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87340A8-B71E-4B00-892A-0CD65170C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54D5B8F-4342-488E-8F9A-872F386A5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95250B7-E756-4ADC-BAD4-6A429B90F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7D8FF2-81A1-410D-B070-BFF50C818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150AE-7148-47E1-8C1E-38F9EA871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51617FF-60F0-41F1-AF54-3C842094B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F74DB13-5EE7-41E9-84BC-D2E9E4CB1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D5D8BB9-11EA-4A39-86BF-48C9F3A7A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07AF4B7-042F-42E5-9C12-DB9868FB2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AE9191E-CE4D-495A-B73F-7A8BCF011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42880F6-28D9-4169-B208-B3A3AC815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3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0565DC7-9708-493A-86AE-6BC333562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0566655-CEDF-4316-9939-5B4C970B4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226C799-7947-4E5A-B8BB-57755ADAB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2F80CE2-D963-441C-B930-165A11077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E9A77-0AFA-4DA0-BF78-4EBE1446C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3562525-4C5D-44E5-9497-FBA0D9673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47C9F91-9CCC-4D0F-8A40-173D64722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36B9DCD-B758-4F95-A2A5-D59DDAD1D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36BA91F-3F8C-4753-B528-32CAFBDFD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B071E46-0F48-486C-8831-BD0586265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30266B0-5B07-47D0-8A7C-5C6854E65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16D94D7-B6B0-4F08-9ED6-A2E892A77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9FC97CF-3B59-4451-AC27-B70E82FF6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B968298-C703-4918-96D4-25EF4C1AE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5385455-BDEC-463E-94B3-47A8DBCE8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72F4C-CC8C-4D0A-805E-8B7BC6F90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634AA03-C26A-4E39-9837-C383D58FA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51BAF02-97C2-4798-B171-DDAC925E8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7BFC2C1-4769-47EC-B293-BC1A13A10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4229ED7-FEDC-404E-A5E6-CD6084079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FD84B54-2421-4C08-967F-686D441B6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0560E04-3C92-468E-B992-F523302F9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347548A-EFE2-4528-BE88-106D05A1D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D3F4486-3C7A-4EA3-95AA-37BA71600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245B562-DBB9-41DA-B152-31AD7BC7B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D2BD96C-31CC-4D5E-9CFA-461DF1B7B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1D244-9B3D-49DB-968E-62BA57D21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1099843-A031-4EE9-BAAE-24FA150E9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6F756A6-746B-4BF5-A47F-B70008A38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28E46B5-A8E1-4936-A472-88CD857C8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4110CF5-2F78-4112-8899-8EC3D4BFD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F120FAF-53DA-47D1-BEAE-C11366946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197C642-5991-4BCF-9D3A-D2EA8A734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F3C46F7-3ED1-45AA-A827-131009725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A2D229F-014F-48EF-9B15-BAD79CA47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FB45E9B-DF1A-4985-BDB5-43A9748A3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82A127F-F010-4E8D-A579-DB6DE04E4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24E4D-05BE-4AF9-9AC7-B13A5832A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89F94E8-7720-4857-B933-EAB4A2868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5A25CC1-43BA-4A78-AB22-2B3C7AA59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9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EDE937E-759A-45D2-888D-BD0739657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14DC27F-36AA-4C3F-99A4-A9D745C2E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AEA0074-E80D-4FBD-87A5-9189559ED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3820F55-AB84-462D-87BF-2D7BA87DA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55584F7-507A-43BE-AB1C-911B006A2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1B4FF58-B74C-42F7-B203-66B7B1F9B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3E5C6D2-E265-4533-BB86-078F660A1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23C105D-0318-458E-8F43-F3751621C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B0D729-55B3-407F-B8D5-8B9390826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FA7035D-8058-4C92-A582-8AEB78C09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3CFB413-D5A9-4325-8384-FE4283A20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C9D849F-DE49-41F3-8BD0-02A92FC8D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5D9E949-7A2B-419B-AD88-DE2A3E0ED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6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AFAE62F-262E-4781-BBCA-5B3C3B205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6C01E70-DCAC-46A8-8D0E-20F3FFE5D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5201DB7-EF9C-4D7D-8C71-059C11B31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B0DDFD7-552A-446D-82C7-BED4799A5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36C5549-7842-45DF-95BB-03EF08688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D3CAFB4-F72F-4360-9DC1-1A10C4822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E74832-4864-431E-AAF8-CEA65751C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1EF8F01-147F-4F3B-88E4-9CB4AA73F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2BB6151-7C7D-486F-A2F8-4378D935A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9AA3507-A8C9-44BC-857E-CB86E3298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7051F69-8650-48CF-81A7-4B783F8CA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FA5A37F-8C26-4BBB-A7F8-27C9FB60F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45133BC-5264-40DE-8D82-D3E69DB86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1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F72E51E-17E7-4773-8897-BFEAF5EC0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86AAA3D-71A5-46CD-8F70-3B3B70BFC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EEADAFB-4243-418F-A538-63381F67A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2B570CE-37A4-4F04-AE37-6F0E9EC31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CEEA60-FE9C-43D0-8DBD-67E364D2E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6F0E8D7-AFE8-4261-9FC9-1D9618CBD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53FAF3B-B503-479D-844B-E1190D5C7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15897AA-181E-49ED-9874-E81F795FA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9B96B35-7083-4DED-866B-DF73EA027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FE98256-5B18-4384-8A4D-D0FE1AF36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7631678-300B-463E-B906-94AEECA6D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767ECFB-8447-41B1-9F36-24E6A6AA2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7B69FB6-1D69-49B2-8137-8C4AB8B8E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7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BA041C6-A983-42AA-8E3E-8652ADFA9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F45DC02-0B89-4054-A83B-DE1293D87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523BC6-30F3-4F0C-86C4-D17A93204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2FBAF5C-017F-42BA-ACE0-6BC25371E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0C6EE55-1BD3-4711-9969-8CD92908B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0D60D5D-CE0E-40CC-A188-639D20EAF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612C7B7-7069-4C7C-A1B2-A3EA1B043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DB0E6DE-02F9-4F2B-9B3C-7569944BC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DD91BED-9BE0-42CC-A4BC-DF941A6B5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A898091-0AD8-4DC6-8C9C-65A3FE8DE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90CC1D0-8107-4240-8F92-AC7F39524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BC4EF25-531B-41A3-8093-0827633AD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1F3527B-1137-4E80-8749-89F026FD5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9898F9-7AF5-4200-9E17-9D5A24C3F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FFB62E4-92CE-405E-962B-E71C234CD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CF24969-1FAE-411D-8F43-DE569A06B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BA7DDF7-A857-4944-B84F-9C48C7097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0B3D0E7-DED1-483A-884C-A2B035920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5D99B9E-9565-4244-9EE5-56BF190E7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9E502AA-802B-418F-A42F-20CF81616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61D31F9-E121-4649-834D-B68991E33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C005F7D-3F78-4E0A-B407-76AD7F287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0DE4858-4DD1-4FD4-A309-72B7C14D0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0EE1074-36C6-47F3-865A-AE0271097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6718F8-755B-417C-B558-30152FFF6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B4C24E-F700-4818-98EB-FAD160FD3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9C23D1C-0EB2-464B-B2DA-363811BB3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E3C4DCF-9CFB-431C-A62D-A8DE74CF5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7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BB48AA5-674F-4E18-B1AA-4474500CB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74F7FA1-8999-4D49-AB06-6A43F9DE7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57FE9C5-DC90-42F7-9778-5318D2DE3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2F02BAC-FDA5-4478-8B2D-531A27FAF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4A4DB32-1232-4B95-AF48-07D0E1612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B5B2C2A-ADF5-4563-B1F3-0596963DB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233AC68-69D5-4576-9A2E-8A82C5B7C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67058F8-7275-4409-937E-7E700BC72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5FEAE3-BBE3-4609-A98E-1335EF99C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A9EA1EE-1E8D-42CD-8A5E-E9D5C7ED5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D082353-2952-44C7-9FD9-C5903EE2E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0C321D2-7915-4AD6-9293-51655DCB1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9F688EF-9DF8-4492-96A0-27AB16080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E0603C7-1F5F-4626-AB1B-83D860801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25EA4B1-6B2E-4A8B-80BE-0A108C200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43F93B7-964F-44DC-9EC8-E6D487E64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5D3215E-247A-4CE1-8E64-6ADD9855F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A6A59CB-E9EE-4831-B8A1-40A200AC4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B73977F-71FC-4E91-BB0E-31049AF85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AC1BF2-DAD6-454F-BCA2-EFBB33628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21F8F34-35C2-484C-B4FF-4924B309D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203F154-ACBA-4491-8FF0-A5E5A34D9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E6932D2-6412-4E52-9CD4-C98F25ECD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6F3B14E-0799-45D9-860E-2FBFBE3EE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67FAFC2-FD83-4928-B402-FBDCB097C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B09B542-E67B-463B-888A-614DA054E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79FE1AF-DC0A-42A7-BA0B-6EA80C374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0E56C3A-4EDE-478D-B1E1-DAE94FA03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B161847-9F25-46A4-85B0-D94418985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02AC459-F139-4263-8A7C-032113BE5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CA14B7-5B62-45AF-B634-1E07B789F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1E61074-58B9-4A25-962A-BC34C686B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DE4FC81-174F-42F9-A12D-706A36B5A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29A9532-D037-4F63-894D-64446383E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899D94E-9BC9-4AC4-9F6C-601895428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6861401-A3D9-48B2-80FD-32DA54C00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EBA3F98-5900-4D94-97D2-7E7AED888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5DD38A9-BB46-416D-9CAF-E1931A2FF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7631F37-E897-492D-87AC-592249DF4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8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3DBB9C8-EBE2-4FC4-BE76-8C2968D40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0564CF2-75B2-44FC-B006-D5F64431B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E036D6-9402-4BE1-AB66-F900534BF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752A8E7-DEBD-40F2-A417-0F42765E7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88B8654-F740-46DB-BD0B-36C893D1E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8391611-9BA4-49EF-89A1-0C9F3D13F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26C1A6B-CE97-4FD4-AAF2-C4D3C650E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6FB3411-40F5-481E-9F4E-BDFA8218F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0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7733FE2-E6C9-4695-B205-EDD8AEFED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0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B6B6137-DAD5-4EF5-AC43-7B610EB66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0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61B7692-B91B-4403-BCAB-18005AE3F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0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F9FB54D-9580-4008-A793-C1942ACE8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15F6D41-D576-4F9D-A6BB-91D031590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1D56B1-15F4-475B-B00B-6B0C7A0DD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17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0F4F426-4F23-4C62-89E5-7E75E9404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FE3BA47-60A2-4AB9-A7E9-81B0AE3F4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A47D216-277C-4239-9706-7C7174C7A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1A28DFA-94FD-444D-A9BE-4DD2AE595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F15352A-3F3E-46A9-9F93-86B53DE90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3EE3634-A370-4C28-905A-139D2D86A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3A7C927-F83F-4B63-8B47-9F8B0F263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344A743-14D7-43A5-B1C7-C56F406FC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292FE39-F6EB-4786-B29F-00F467A61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144CCC5-EA7C-4CB3-90F2-F7D95C332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F46158-6399-49CB-9180-FA79894EF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CE1EECA-9166-4A0B-84F3-3AC938146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1752697-9C5A-4899-BD85-7A132825C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21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C2261B6-9567-4EBC-B565-A11424E8F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2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B6B2403-857D-4B6E-A012-F2531833B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2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68F6814-8351-45F3-8B36-C9666BE05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B6DE2D0-86D8-482E-804B-B783C1F05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990CAC2-8D09-45E9-A6DA-0F3961243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2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F5A8805-1F15-41B8-A0C2-EF16AB56C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0BEA4F2-13A1-48D7-A5F5-F44975545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07D2B8A-8285-4A70-8D09-0A1C4B2F6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91EB1D-3476-4A0C-B4DF-3B759DD39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B7C42C7-4D84-4FEB-BC93-D4BF50F60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1C1140C-AA03-4D19-A76E-446E88805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2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856E867-015D-4D7D-A156-3804CD9F0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92308B-E0DF-4CA3-A55A-00FF218B2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11ACD3-C6D2-4D1A-AF25-B71B6A51F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B1EA5F-C698-4AE2-AEE7-B676D02C4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BB0F94-CA69-4745-8EBA-3264AB1F3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55175D-C9D6-4025-B471-1ACCC1BF6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2EDF59-EC68-4115-AD1A-1D57124B4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3AB5A7-7A2B-4431-A361-82AF15AE7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73DF22-964C-4384-88BA-1469A7E09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4971CE-535E-4BED-BF4C-098393C4D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BC94F5-67E0-434B-BF23-811FDC900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0D8B46-313C-4924-BC23-89098D6D3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0842FC-26C7-4354-98BC-543BBF71A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7A0719D-C564-45A1-93B7-E75694A23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AAC461-B47A-4A14-8EFA-BB8D48625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4A9FD2B-B6F0-495C-A8E2-952CDE1D0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43EC72E-DC80-4F53-9FE2-8849F1A9B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F56A9BF-724E-4157-B4D1-56EE06821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3DE4374-D3E7-4E25-A293-C1EBE351A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308166E-453F-4A7C-BC23-C143C5FE5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A0A46B1-71F7-4130-B041-C297836AF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1643E44-1328-4B56-A998-EF88AF082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C8CE101-469B-4815-9312-F8A8FBF8B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2FB4157-1213-4014-9652-387ABCED9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812CAF6-F7DD-439C-A3C8-D0166F2AA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9FA72B-574F-46EA-A404-95A28A82D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4767480-5797-4ACC-AC43-BC2E7870F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055D23-616B-4103-96D9-62FF38EBF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0782A9-E0C2-4E72-8847-A8B5B36E6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1E9BBE-BA3C-49C1-A355-1F09276AF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A70D90-9CAB-497B-806E-FBD2B6634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DEE89F-726C-41CC-9FC9-D31F641ED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F3FC91-858A-4679-A0B3-896A40F00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E32867-752E-4F3E-BF1E-274BB2158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252EFE-65CA-4049-84E7-BAC568E20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EDD653-4306-4DF3-967B-06DDF74F2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5472AB-1092-4462-91D2-5734B3566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C53608-54BA-4818-BB11-509FD1521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820424-F289-4874-96E2-7B4CA61EE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6B68CF-98AE-4B31-898A-5F6C392E9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FE9862-C668-4EF1-B9C5-A95777979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8D8167-0E25-4D09-B2ED-6B3A0EF89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C05534-F143-48E1-AAF0-B04BFDC14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A5F86D-7A49-4AA1-961D-FA59AB77E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190B43-2CD2-4250-BA3C-2F63BAFE5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DCEB7B-4B11-441F-82E4-612E02220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0A3671-59A8-4B91-A624-171C2357A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2D7738-DD36-46E7-92C6-73319CFF1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CB8E29-EFAB-4CBD-9876-03D186A6F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EF93A8-FD50-4431-896C-0D9B19094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3199DA-E4CD-4C37-9B99-51CD66855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FC8BFC-CAD7-49DF-95B2-ABC6758AE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995CA9-E695-4BD6-8F20-163304F81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7ED4AE3-FFDE-4134-A3AA-DE06C7812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6E7FC01-82D0-4712-B1B4-4AA41816D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015FBD0-2168-45B0-8DD4-AF9D1923C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1F7E60F-D1A9-4866-A953-A2675C337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F07AACB-2028-46B4-8F1F-3B5ED9293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C1B7AC-E113-4B4B-B8B6-C958B1D49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812C7A0-A119-44AA-A4A8-4D95073EB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915658F-F5C2-4DC4-A5D9-EAC7A3B9E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9641848-9DB6-4220-9D19-03C2DE54D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A6F9932-30CB-4FE9-B042-6D00C0DB2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60D4B35-15D5-46FD-A076-DAC71CC32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2A33C32-7515-4E09-9F9C-17B0CEFF0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FCDE3C6-DD7A-46DD-8386-FE3F11046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C95521-7EDA-4DCB-8022-036862939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172331-CC39-4B2C-925D-E1732B4F4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2F3A64-EF5B-41DA-9821-98740D2F5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37.xml"/><Relationship Id="rId4" Type="http://schemas.openxmlformats.org/officeDocument/2006/relationships/slideLayout" Target="../slideLayouts/slideLayout338.xml"/><Relationship Id="rId5" Type="http://schemas.openxmlformats.org/officeDocument/2006/relationships/slideLayout" Target="../slideLayouts/slideLayout339.xml"/><Relationship Id="rId6" Type="http://schemas.openxmlformats.org/officeDocument/2006/relationships/slideLayout" Target="../slideLayouts/slideLayout340.xml"/><Relationship Id="rId7" Type="http://schemas.openxmlformats.org/officeDocument/2006/relationships/slideLayout" Target="../slideLayouts/slideLayout341.xml"/><Relationship Id="rId8" Type="http://schemas.openxmlformats.org/officeDocument/2006/relationships/slideLayout" Target="../slideLayouts/slideLayout342.xml"/><Relationship Id="rId9" Type="http://schemas.openxmlformats.org/officeDocument/2006/relationships/slideLayout" Target="../slideLayouts/slideLayout343.xml"/><Relationship Id="rId10" Type="http://schemas.openxmlformats.org/officeDocument/2006/relationships/slideLayout" Target="../slideLayouts/slideLayout344.xml"/><Relationship Id="rId11" Type="http://schemas.openxmlformats.org/officeDocument/2006/relationships/slideLayout" Target="../slideLayouts/slideLayout345.xml"/><Relationship Id="rId12" Type="http://schemas.openxmlformats.org/officeDocument/2006/relationships/slideLayout" Target="../slideLayouts/slideLayout346.xml"/><Relationship Id="rId13" Type="http://schemas.openxmlformats.org/officeDocument/2006/relationships/slideLayout" Target="../slideLayouts/slideLayout347.xml"/><Relationship Id="rId14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f97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9536F-787B-4CFA-9D8B-EA675170CB54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70cac6"/>
                </a:gs>
                <a:gs pos="100000">
                  <a:srgbClr val="2f97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2f97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70ca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70ca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70ca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009999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009999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2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613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4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615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 type="dt" idx="28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 type="ftr" idx="29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 type="sldNum" idx="30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201D3-FB3C-44E6-B6E3-FB31A843D840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9" name="Group 2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660" name="Rectangle 3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Rectangle 4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Line 5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 type="dt" idx="31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 type="ftr" idx="32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5"/>
          <p:cNvSpPr>
            <a:spLocks noGrp="1"/>
          </p:cNvSpPr>
          <p:nvPr>
            <p:ph type="sldNum" idx="3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11141-26CD-41A4-A358-10192E9C9225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4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705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06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707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4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5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6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7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8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9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0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1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732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733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48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749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0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51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752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3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4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5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6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7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8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9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0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761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2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3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4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5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6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7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 type="dt" idx="3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 type="ftr" idx="3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 type="sldNum" idx="3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DABBF-F29B-4146-83B3-8073C8B628E1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0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811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2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3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4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5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6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7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8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9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0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1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2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3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4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5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ABD17-4AF3-4CEC-9EEF-A3DCC7E1BB5C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6E98D-F5D0-4E11-B3A7-0E7A6B40E71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8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909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910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1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2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3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4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5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6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7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8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9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0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1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2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23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924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5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6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7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8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9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0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1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2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3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4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5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6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7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8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9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0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1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2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3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4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5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6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7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8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9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0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1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2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3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4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5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6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7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8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9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0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1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2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3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4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5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6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7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8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9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0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1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2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3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4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5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6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7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8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9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0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1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2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3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4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5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6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7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8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9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0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1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2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3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4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5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6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7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8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9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0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1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2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3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4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5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6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7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8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9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0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1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2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3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4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5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6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7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8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9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0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1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2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3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4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5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6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7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8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9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0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1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2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3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4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5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6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7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8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9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0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1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2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3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4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5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6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7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8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9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0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1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2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3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4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5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6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7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8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 type="dt" idx="43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FFB7D-4229-46E0-819B-FCEB09341D66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10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5" name="PlaceHolder 3"/>
          <p:cNvSpPr>
            <a:spLocks noGrp="1"/>
          </p:cNvSpPr>
          <p:nvPr>
            <p:ph type="dt" idx="4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6" name="PlaceHolder 4"/>
          <p:cNvSpPr>
            <a:spLocks noGrp="1"/>
          </p:cNvSpPr>
          <p:nvPr>
            <p:ph type="ftr" idx="4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7D5E7-FCBB-488B-BF8A-ED217A8D36D0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f97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4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45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70cac6"/>
                </a:gs>
                <a:gs pos="100000">
                  <a:srgbClr val="2f97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6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47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48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9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70ca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0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70ca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1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2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3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70ca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4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5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6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70ca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7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009999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009999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 type="dt" idx="4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1" name="PlaceHolder 4"/>
          <p:cNvSpPr>
            <a:spLocks noGrp="1"/>
          </p:cNvSpPr>
          <p:nvPr>
            <p:ph type="ftr" idx="5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3477F-0B73-4A63-92CF-D7E44D0D3597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00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1201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2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3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4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5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6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7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8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9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0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1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2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3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4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5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6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7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8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9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0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1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2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3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4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5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6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7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8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9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0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1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32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4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PlaceHolder 3"/>
          <p:cNvSpPr>
            <a:spLocks noGrp="1"/>
          </p:cNvSpPr>
          <p:nvPr>
            <p:ph type="dt" idx="5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6" name="PlaceHolder 4"/>
          <p:cNvSpPr>
            <a:spLocks noGrp="1"/>
          </p:cNvSpPr>
          <p:nvPr>
            <p:ph type="ftr" idx="5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79EE2-8EFE-4848-BD2D-993E1B9D0657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4" name="Group 7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1275" name="Rectangle 8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6" name="Rectangle 9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7" name="Rectangle 10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0" name="PlaceHolder 3"/>
          <p:cNvSpPr>
            <a:spLocks noGrp="1"/>
          </p:cNvSpPr>
          <p:nvPr>
            <p:ph type="dt" idx="5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1" name="PlaceHolder 4"/>
          <p:cNvSpPr>
            <a:spLocks noGrp="1"/>
          </p:cNvSpPr>
          <p:nvPr>
            <p:ph type="ftr" idx="5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7C116-8D70-424D-8ED3-BA805BBC84AB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4FCE5-6ED2-460A-896E-E7DD3EC3AD00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58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Oval 10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Oval 11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Oval 12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Oval 13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Oval 14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Oval 15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Oval 16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Oval 17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Oval 18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Oval 19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Oval 20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Oval 22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Oval 23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Oval 24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Oval 26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Oval 27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Oval 28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Oval 30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Oval 31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Oval 32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Oval 33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Oval 34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Oval 35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Oval 36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Oval 37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Oval 38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Oval 39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0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PlaceHolder 3"/>
          <p:cNvSpPr>
            <a:spLocks noGrp="1"/>
          </p:cNvSpPr>
          <p:nvPr>
            <p:ph type="dt" idx="5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4" name="PlaceHolder 4"/>
          <p:cNvSpPr>
            <a:spLocks noGrp="1"/>
          </p:cNvSpPr>
          <p:nvPr>
            <p:ph type="ftr" idx="59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BD5F2-F1AC-4480-B0C5-575267E42CBF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2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363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4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5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6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7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8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9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0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1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2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3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4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5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6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7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8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9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0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1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2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3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8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6" name="PlaceHolder 3"/>
          <p:cNvSpPr>
            <a:spLocks noGrp="1"/>
          </p:cNvSpPr>
          <p:nvPr>
            <p:ph type="dt" idx="6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7" name="PlaceHolder 4"/>
          <p:cNvSpPr>
            <a:spLocks noGrp="1"/>
          </p:cNvSpPr>
          <p:nvPr>
            <p:ph type="ftr" idx="6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E5E55-4278-43FD-A2B4-0CAD193EDC14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5" name="Group 2"/>
          <p:cNvGrpSpPr/>
          <p:nvPr/>
        </p:nvGrpSpPr>
        <p:grpSpPr>
          <a:xfrm>
            <a:off x="2010960" y="245520"/>
            <a:ext cx="6896160" cy="5452200"/>
            <a:chOff x="2010960" y="245520"/>
            <a:chExt cx="6896160" cy="5452200"/>
          </a:xfrm>
        </p:grpSpPr>
        <p:grpSp>
          <p:nvGrpSpPr>
            <p:cNvPr id="1426" name="Group 3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427" name="Oval 4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8" name="Oval 5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429" name="Group 6"/>
            <p:cNvGrpSpPr/>
            <p:nvPr/>
          </p:nvGrpSpPr>
          <p:grpSpPr>
            <a:xfrm>
              <a:off x="2010960" y="245520"/>
              <a:ext cx="6896160" cy="5452200"/>
              <a:chOff x="2010960" y="245520"/>
              <a:chExt cx="6896160" cy="5452200"/>
            </a:xfrm>
          </p:grpSpPr>
          <p:grpSp>
            <p:nvGrpSpPr>
              <p:cNvPr id="1430" name="Group 7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431" name="Group 8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432" name="Oval 9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3" name="Oval 10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34" name="Group 11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435" name="Group 12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436" name="Freeform 13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37" name="Freeform 14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38" name="Group 15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439" name="Freeform 16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40" name="Freeform 17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41" name="Group 18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442" name="Freeform 19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43" name="Freeform 20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44" name="Group 21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445" name="Freeform 22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46" name="Freeform 23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47" name="Group 24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448" name="Freeform 25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49" name="Freeform 26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50" name="Group 27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1451" name="Freeform 28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52" name="Freeform 29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53" name="Group 30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1454" name="Freeform 31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55" name="Freeform 32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56" name="Group 33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1457" name="Freeform 34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58" name="Freeform 35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59" name="Group 36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1460" name="Freeform 37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61" name="Freeform 38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62" name="Group 39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1463" name="Freeform 40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64" name="Freeform 41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65" name="Group 42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1466" name="Freeform 43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67" name="Freeform 44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68" name="Group 45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1469" name="Freeform 46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70" name="Freeform 47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71" name="Group 48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1472" name="Freeform 49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73" name="Freeform 50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74" name="Group 51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1475" name="Freeform 52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76" name="Freeform 53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77" name="Group 54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1478" name="Freeform 55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79" name="Freeform 56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80" name="Group 57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1481" name="Freeform 58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82" name="Freeform 59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83" name="Group 60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1484" name="Freeform 61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85" name="Freeform 62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86" name="Group 63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1487" name="Freeform 64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88" name="Freeform 65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89" name="Group 66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1490" name="Freeform 67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91" name="Freeform 68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92" name="Group 69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1493" name="Freeform 70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94" name="Freeform 71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95" name="Group 72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1496" name="Freeform 73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97" name="Freeform 74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98" name="Freeform 75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9" name="Freeform 76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500" name="Group 77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1501" name="Freeform 78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02" name="Freeform 79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03" name="Group 80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1504" name="Freeform 81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05" name="Freeform 82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06" name="Group 83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1507" name="Freeform 84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08" name="Freeform 85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09" name="Group 86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1510" name="Freeform 87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11" name="Freeform 88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12" name="Group 89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1513" name="Freeform 90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14" name="Freeform 91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15" name="Group 92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1516" name="Freeform 93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17" name="Freeform 94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18" name="Group 95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1519" name="Freeform 96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20" name="Freeform 97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21" name="Group 98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1522" name="Freeform 99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23" name="Freeform 100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24" name="Group 101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1525" name="Freeform 102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26" name="Freeform 103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27" name="Group 104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1528" name="Freeform 105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29" name="Freeform 106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30" name="Group 107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1531" name="Freeform 108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32" name="Freeform 109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1533" name="Group 110"/>
              <p:cNvGrpSpPr/>
              <p:nvPr/>
            </p:nvGrpSpPr>
            <p:grpSpPr>
              <a:xfrm>
                <a:off x="2175480" y="682560"/>
                <a:ext cx="6731640" cy="4521240"/>
                <a:chOff x="2175480" y="682560"/>
                <a:chExt cx="6731640" cy="4521240"/>
              </a:xfrm>
            </p:grpSpPr>
            <p:grpSp>
              <p:nvGrpSpPr>
                <p:cNvPr id="1534" name="Group 111"/>
                <p:cNvGrpSpPr/>
                <p:nvPr/>
              </p:nvGrpSpPr>
              <p:grpSpPr>
                <a:xfrm>
                  <a:off x="2175480" y="682560"/>
                  <a:ext cx="6731640" cy="4521240"/>
                  <a:chOff x="2175480" y="682560"/>
                  <a:chExt cx="6731640" cy="4521240"/>
                </a:xfrm>
              </p:grpSpPr>
              <p:sp>
                <p:nvSpPr>
                  <p:cNvPr id="1535" name="Arc 112"/>
                  <p:cNvSpPr/>
                  <p:nvPr/>
                </p:nvSpPr>
                <p:spPr>
                  <a:xfrm flipV="1">
                    <a:off x="5741640" y="857880"/>
                    <a:ext cx="3165480" cy="25225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</a:path>
                      <a:path stroke="0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  <a:lnTo>
                          <a:pt x="17826" y="0"/>
                        </a:lnTo>
                        <a:lnTo>
                          <a:pt x="36729" y="1045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6" name="Arc 113"/>
                  <p:cNvSpPr/>
                  <p:nvPr/>
                </p:nvSpPr>
                <p:spPr>
                  <a:xfrm flipH="1">
                    <a:off x="2561760" y="2270520"/>
                    <a:ext cx="248580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</a:path>
                      <a:path stroke="0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  <a:lnTo>
                          <a:pt x="8873" y="21600"/>
                        </a:lnTo>
                        <a:lnTo>
                          <a:pt x="-1" y="1906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7" name="Arc 114"/>
                  <p:cNvSpPr/>
                  <p:nvPr/>
                </p:nvSpPr>
                <p:spPr>
                  <a:xfrm>
                    <a:off x="5819400" y="1752840"/>
                    <a:ext cx="175824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</a:path>
                      <a:path stroke="0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8" name="Arc 115"/>
                  <p:cNvSpPr/>
                  <p:nvPr/>
                </p:nvSpPr>
                <p:spPr>
                  <a:xfrm flipH="1">
                    <a:off x="2175480" y="1298880"/>
                    <a:ext cx="313200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</a:path>
                      <a:path stroke="0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  <a:lnTo>
                          <a:pt x="15230" y="21600"/>
                        </a:lnTo>
                        <a:lnTo>
                          <a:pt x="0" y="6283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9" name="Arc 116"/>
                  <p:cNvSpPr/>
                  <p:nvPr/>
                </p:nvSpPr>
                <p:spPr>
                  <a:xfrm flipH="1">
                    <a:off x="3058560" y="682560"/>
                    <a:ext cx="2280960" cy="2840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</a:path>
                      <a:path stroke="0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  <a:lnTo>
                          <a:pt x="18231" y="21600"/>
                        </a:lnTo>
                        <a:lnTo>
                          <a:pt x="-1" y="10015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0" name="Arc 117"/>
                  <p:cNvSpPr/>
                  <p:nvPr/>
                </p:nvSpPr>
                <p:spPr>
                  <a:xfrm>
                    <a:off x="5491080" y="1875960"/>
                    <a:ext cx="941760" cy="2840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</a:path>
                      <a:path stroke="0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1" name="Freeform 118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2" name="Freeform 119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43" name="Group 120"/>
            <p:cNvGrpSpPr/>
            <p:nvPr/>
          </p:nvGrpSpPr>
          <p:grpSpPr>
            <a:xfrm>
              <a:off x="2342880" y="712800"/>
              <a:ext cx="6410160" cy="4708080"/>
              <a:chOff x="2342880" y="712800"/>
              <a:chExt cx="6410160" cy="4708080"/>
            </a:xfrm>
          </p:grpSpPr>
          <p:sp>
            <p:nvSpPr>
              <p:cNvPr id="1544" name="Freeform 121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5" name="Arc 122"/>
              <p:cNvSpPr/>
              <p:nvPr/>
            </p:nvSpPr>
            <p:spPr>
              <a:xfrm flipH="1">
                <a:off x="3384000" y="2579760"/>
                <a:ext cx="2616480" cy="284112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6" name="Arc 123"/>
              <p:cNvSpPr/>
              <p:nvPr/>
            </p:nvSpPr>
            <p:spPr>
              <a:xfrm flipH="1">
                <a:off x="3645360" y="2122200"/>
                <a:ext cx="1533600" cy="293400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7" name="Arc 124"/>
              <p:cNvSpPr/>
              <p:nvPr/>
            </p:nvSpPr>
            <p:spPr>
              <a:xfrm flipH="1">
                <a:off x="2342520" y="1737720"/>
                <a:ext cx="2930040" cy="293364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8" name="Arc 125"/>
              <p:cNvSpPr/>
              <p:nvPr/>
            </p:nvSpPr>
            <p:spPr>
              <a:xfrm>
                <a:off x="5586480" y="2150640"/>
                <a:ext cx="469800" cy="29340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9" name="Arc 126"/>
              <p:cNvSpPr/>
              <p:nvPr/>
            </p:nvSpPr>
            <p:spPr>
              <a:xfrm>
                <a:off x="5709960" y="2136960"/>
                <a:ext cx="1237680" cy="29340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0" name="Freeform 127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1" name="Freeform 128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2" name="Freeform 129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3" name="Freeform 130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4" name="Freeform 131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5" name="Freeform 132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6" name="Freeform 133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7" name="Freeform 134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5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0" name="PlaceHolder 3"/>
          <p:cNvSpPr>
            <a:spLocks noGrp="1"/>
          </p:cNvSpPr>
          <p:nvPr>
            <p:ph type="dt" idx="6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1" name="PlaceHolder 4"/>
          <p:cNvSpPr>
            <a:spLocks noGrp="1"/>
          </p:cNvSpPr>
          <p:nvPr>
            <p:ph type="ftr" idx="6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2" name="PlaceHolder 5"/>
          <p:cNvSpPr>
            <a:spLocks noGrp="1"/>
          </p:cNvSpPr>
          <p:nvPr>
            <p:ph type="sldNum" idx="6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7681E-94A6-4D2D-92CB-003E6B10CFE4}" type="slidenum">
              <a:rPr b="0" lang="ru-RU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99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1600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1601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2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603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4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5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606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1607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8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9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0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1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2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5" name="PlaceHolder 3"/>
          <p:cNvSpPr>
            <a:spLocks noGrp="1"/>
          </p:cNvSpPr>
          <p:nvPr>
            <p:ph type="dt" idx="67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6" name="PlaceHolder 4"/>
          <p:cNvSpPr>
            <a:spLocks noGrp="1"/>
          </p:cNvSpPr>
          <p:nvPr>
            <p:ph type="ftr" idx="68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7" name="PlaceHolder 5"/>
          <p:cNvSpPr>
            <a:spLocks noGrp="1"/>
          </p:cNvSpPr>
          <p:nvPr>
            <p:ph type="sldNum" idx="69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03348-6C58-4C85-8966-7761E3D29D0B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4" name="Line 7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55" name="Group 8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1656" name="Rectangle 9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7" name="Rectangle 10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8" name="Rectangle 11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9" name="Rectangle 12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0" name="Rectangle 13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1" name="Rectangle 14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2" name="Rectangle 15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3" name="Rectangle 16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4" name="Rectangle 17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5" name="Rectangle 18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6" name="Rectangle 19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7" name="Rectangle 20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8" name="Rectangle 21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69" name="Line 22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1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2" name="PlaceHolder 3"/>
          <p:cNvSpPr>
            <a:spLocks noGrp="1"/>
          </p:cNvSpPr>
          <p:nvPr>
            <p:ph type="dt" idx="7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3" name="PlaceHolder 4"/>
          <p:cNvSpPr>
            <a:spLocks noGrp="1"/>
          </p:cNvSpPr>
          <p:nvPr>
            <p:ph type="ftr" idx="7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4" name="PlaceHolder 5"/>
          <p:cNvSpPr>
            <a:spLocks noGrp="1"/>
          </p:cNvSpPr>
          <p:nvPr>
            <p:ph type="sldNum" idx="7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4BFF4-7C50-4282-9C8D-2640040EBB7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11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712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3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4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5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6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7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8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1" name="PlaceHolder 3"/>
          <p:cNvSpPr>
            <a:spLocks noGrp="1"/>
          </p:cNvSpPr>
          <p:nvPr>
            <p:ph type="dt" idx="7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2" name="PlaceHolder 4"/>
          <p:cNvSpPr>
            <a:spLocks noGrp="1"/>
          </p:cNvSpPr>
          <p:nvPr>
            <p:ph type="ftr" idx="7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3" name="PlaceHolder 5"/>
          <p:cNvSpPr>
            <a:spLocks noGrp="1"/>
          </p:cNvSpPr>
          <p:nvPr>
            <p:ph type="sldNum" idx="7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970BB-9CF9-436F-B524-24936424A5E4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0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1761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762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1763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4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5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66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1767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8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70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PlaceHolder 3"/>
          <p:cNvSpPr>
            <a:spLocks noGrp="1"/>
          </p:cNvSpPr>
          <p:nvPr>
            <p:ph type="dt" idx="76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2" name="PlaceHolder 4"/>
          <p:cNvSpPr>
            <a:spLocks noGrp="1"/>
          </p:cNvSpPr>
          <p:nvPr>
            <p:ph type="ftr" idx="77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3" name="PlaceHolder 5"/>
          <p:cNvSpPr>
            <a:spLocks noGrp="1"/>
          </p:cNvSpPr>
          <p:nvPr>
            <p:ph type="sldNum" idx="78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A4E48-754C-4917-B1A8-EB0B97BEDB8C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10" name="Group 2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1811" name="Rectangle 3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2" name="Rectangle 4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3" name="Line 5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1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5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6" name="PlaceHolder 3"/>
          <p:cNvSpPr>
            <a:spLocks noGrp="1"/>
          </p:cNvSpPr>
          <p:nvPr>
            <p:ph type="dt" idx="79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7" name="PlaceHolder 4"/>
          <p:cNvSpPr>
            <a:spLocks noGrp="1"/>
          </p:cNvSpPr>
          <p:nvPr>
            <p:ph type="ftr" idx="80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8" name="PlaceHolder 5"/>
          <p:cNvSpPr>
            <a:spLocks noGrp="1"/>
          </p:cNvSpPr>
          <p:nvPr>
            <p:ph type="sldNum" idx="81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FF776-428D-47DA-ABC4-A6862FDF171D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55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856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857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858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9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0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1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2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3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4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5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6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7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8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9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0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1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2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3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4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5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6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7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8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9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0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1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2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883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884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85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86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87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88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89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90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91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92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93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94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95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96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97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98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99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900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01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02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903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04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05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06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07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08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09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10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11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12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3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4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5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6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7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8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9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92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1" name="PlaceHolder 2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2" name="PlaceHolder 3"/>
          <p:cNvSpPr>
            <a:spLocks noGrp="1"/>
          </p:cNvSpPr>
          <p:nvPr>
            <p:ph type="dt" idx="82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3" name="PlaceHolder 4"/>
          <p:cNvSpPr>
            <a:spLocks noGrp="1"/>
          </p:cNvSpPr>
          <p:nvPr>
            <p:ph type="ftr" idx="83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4" name="PlaceHolder 5"/>
          <p:cNvSpPr>
            <a:spLocks noGrp="1"/>
          </p:cNvSpPr>
          <p:nvPr>
            <p:ph type="sldNum" idx="84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62E40-0670-460A-AB26-FA50B2B63BFF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61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962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3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4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5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6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7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8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9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0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1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2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3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4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5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6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7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79" name="PlaceHolder 3"/>
          <p:cNvSpPr>
            <a:spLocks noGrp="1"/>
          </p:cNvSpPr>
          <p:nvPr>
            <p:ph type="dt" idx="8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0" name="PlaceHolder 4"/>
          <p:cNvSpPr>
            <a:spLocks noGrp="1"/>
          </p:cNvSpPr>
          <p:nvPr>
            <p:ph type="ftr" idx="8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1" name="PlaceHolder 5"/>
          <p:cNvSpPr>
            <a:spLocks noGrp="1"/>
          </p:cNvSpPr>
          <p:nvPr>
            <p:ph type="sldNum" idx="8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10EDD-B33F-4D82-9D12-BDBA7050EE33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3"/>
    <p:sldLayoutId id="2147484014" r:id="rId4"/>
    <p:sldLayoutId id="2147484015" r:id="rId5"/>
    <p:sldLayoutId id="2147484016" r:id="rId6"/>
    <p:sldLayoutId id="2147484017" r:id="rId7"/>
    <p:sldLayoutId id="2147484018" r:id="rId8"/>
    <p:sldLayoutId id="2147484019" r:id="rId9"/>
    <p:sldLayoutId id="2147484020" r:id="rId10"/>
    <p:sldLayoutId id="2147484021" r:id="rId11"/>
    <p:sldLayoutId id="2147484022" r:id="rId12"/>
    <p:sldLayoutId id="2147484023" r:id="rId13"/>
    <p:sldLayoutId id="2147484024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6BEF8-4DA7-4B87-A205-A5336E22FBC1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Line 8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8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2019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020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1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2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3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4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5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6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7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8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9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0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1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2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33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34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5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6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7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8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9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0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1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2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3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4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5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6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7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8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9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0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1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2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3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4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5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6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7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8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9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0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1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2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3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4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5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6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7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8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9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0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1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2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3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4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5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6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7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8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9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0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1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2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3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4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5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6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7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8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9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0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1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2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3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4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5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6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7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8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9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0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1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2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3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4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5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6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7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8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9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0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1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2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3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4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5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6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7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8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9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0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1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2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3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4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5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6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7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8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9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0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1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2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3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4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5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6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7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8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9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0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1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2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3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4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5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6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7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8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9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0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1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2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3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4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5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6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7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8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9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0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1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2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3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4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5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6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7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8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70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1" name="PlaceHolder 3"/>
          <p:cNvSpPr>
            <a:spLocks noGrp="1"/>
          </p:cNvSpPr>
          <p:nvPr>
            <p:ph type="dt" idx="88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2" name="PlaceHolder 4"/>
          <p:cNvSpPr>
            <a:spLocks noGrp="1"/>
          </p:cNvSpPr>
          <p:nvPr>
            <p:ph type="ftr" idx="8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3" name="PlaceHolder 5"/>
          <p:cNvSpPr>
            <a:spLocks noGrp="1"/>
          </p:cNvSpPr>
          <p:nvPr>
            <p:ph type="sldNum" idx="90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4FAF4-3AC0-43E8-A438-25F0DB2278B3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10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2211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2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5" name="PlaceHolder 3"/>
          <p:cNvSpPr>
            <a:spLocks noGrp="1"/>
          </p:cNvSpPr>
          <p:nvPr>
            <p:ph type="dt" idx="9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6" name="PlaceHolder 4"/>
          <p:cNvSpPr>
            <a:spLocks noGrp="1"/>
          </p:cNvSpPr>
          <p:nvPr>
            <p:ph type="ftr" idx="9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7" name="PlaceHolder 5"/>
          <p:cNvSpPr>
            <a:spLocks noGrp="1"/>
          </p:cNvSpPr>
          <p:nvPr>
            <p:ph type="sldNum" idx="9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22F1E-664B-4702-8503-FA6B5A761DB5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AC777-C3CB-4779-BF3C-B0FA0FFEECDA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3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214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49E8F-5558-4168-BA6F-1AE6499E3D7E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dt" idx="1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6" name="Group 2"/>
          <p:cNvGrpSpPr/>
          <p:nvPr/>
        </p:nvGrpSpPr>
        <p:grpSpPr>
          <a:xfrm>
            <a:off x="6273360" y="-21240"/>
            <a:ext cx="2870280" cy="3275280"/>
            <a:chOff x="6273360" y="-21240"/>
            <a:chExt cx="2870280" cy="3275280"/>
          </a:xfrm>
        </p:grpSpPr>
        <p:grpSp>
          <p:nvGrpSpPr>
            <p:cNvPr id="277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78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Oval 5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80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281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Oval 8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83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284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Oval 11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86" name="Group 12"/>
            <p:cNvGrpSpPr/>
            <p:nvPr/>
          </p:nvGrpSpPr>
          <p:grpSpPr>
            <a:xfrm>
              <a:off x="6273360" y="-21240"/>
              <a:ext cx="2870280" cy="2268360"/>
              <a:chOff x="6273360" y="-21240"/>
              <a:chExt cx="2870280" cy="2268360"/>
            </a:xfrm>
          </p:grpSpPr>
          <p:grpSp>
            <p:nvGrpSpPr>
              <p:cNvPr id="287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288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9" name="Oval 15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0" name="Group 16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291" name="Group 17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292" name="Freeform 18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3" name="Freeform 19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4" name="Group 20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295" name="Freeform 21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6" name="Freeform 22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7" name="Group 23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98" name="Freeform 24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25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0" name="Group 26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301" name="Freeform 27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2" name="Freeform 28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3" name="Group 29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304" name="Freeform 30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31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6" name="Group 32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07" name="Freeform 33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8" name="Freeform 34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9" name="Group 35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10" name="Freeform 36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1" name="Freeform 37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2" name="Group 38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13" name="Freeform 39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4" name="Freeform 40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5" name="Group 41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316" name="Freeform 42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7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8" name="Group 44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319" name="Freeform 45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0" name="Freeform 46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1" name="Group 47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322" name="Freeform 48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3" name="Freeform 49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4" name="Group 50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325" name="Freeform 51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6" name="Freeform 52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7" name="Group 53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328" name="Freeform 54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9" name="Freeform 55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0" name="Group 56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331" name="Freeform 57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58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3" name="Group 59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334" name="Freeform 60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5" name="Freeform 61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6" name="Group 62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337" name="Freeform 63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8" name="Freeform 64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9" name="Group 65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340" name="Freeform 66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1" name="Freeform 67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2" name="Group 68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343" name="Freeform 69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4" name="Freeform 70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5" name="Group 71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346" name="Freeform 72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7" name="Freeform 73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8" name="Group 74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349" name="Freeform 75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0" name="Freeform 76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1" name="Group 77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352" name="Freeform 78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3" name="Freeform 79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54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5" name="Freeform 81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356" name="Group 82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357" name="Freeform 83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8" name="Freeform 84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9" name="Group 85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360" name="Freeform 86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1" name="Freeform 87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2" name="Group 88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363" name="Freeform 89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80" bIns="-28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4" name="Freeform 90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5" name="Group 91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366" name="Freeform 92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7" name="Freeform 93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8" name="Group 94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369" name="Freeform 95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0" name="Freeform 96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1" name="Group 97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372" name="Freeform 98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3" name="Freeform 99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4" name="Group 100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375" name="Freeform 101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6" name="Freeform 102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7" name="Group 103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378" name="Freeform 104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9" name="Freeform 105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0" name="Group 106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381" name="Freeform 107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2" name="Freeform 108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3" name="Group 109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384" name="Freeform 110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5" name="Freeform 111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6" name="Group 112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387" name="Freeform 113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8" name="Freeform 114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389" name="Freeform 115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Arc 116"/>
              <p:cNvSpPr/>
              <p:nvPr/>
            </p:nvSpPr>
            <p:spPr>
              <a:xfrm flipH="1">
                <a:off x="6844680" y="950040"/>
                <a:ext cx="1090080" cy="118188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/>
                <a:ahLst/>
                <a:rect l="l" t="t" r="r" b="b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lnTo>
                      <a:pt x="36729" y="1045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" name="Arc 118"/>
              <p:cNvSpPr/>
              <p:nvPr/>
            </p:nvSpPr>
            <p:spPr>
              <a:xfrm flipH="1">
                <a:off x="6954480" y="759240"/>
                <a:ext cx="637200" cy="122112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" name="Arc 119"/>
              <p:cNvSpPr/>
              <p:nvPr/>
            </p:nvSpPr>
            <p:spPr>
              <a:xfrm flipH="1">
                <a:off x="6502320" y="821880"/>
                <a:ext cx="1035000" cy="1219680"/>
              </a:xfrm>
              <a:custGeom>
                <a:avLst/>
                <a:gdLst/>
                <a:ahLst/>
                <a:rect l="l" t="t" r="r" b="b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lnTo>
                      <a:pt x="-1" y="1906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" name="Arc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" name="Arc 122"/>
              <p:cNvSpPr/>
              <p:nvPr/>
            </p:nvSpPr>
            <p:spPr>
              <a:xfrm>
                <a:off x="7813080" y="765720"/>
                <a:ext cx="515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" name="Arc 123"/>
              <p:cNvSpPr/>
              <p:nvPr/>
            </p:nvSpPr>
            <p:spPr>
              <a:xfrm>
                <a:off x="7858800" y="605880"/>
                <a:ext cx="731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" name="Freeform 124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" name="Freeform 125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/>
                <a:ahLst/>
                <a:rect l="l" t="t" r="r" b="b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lnTo>
                      <a:pt x="0" y="6283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" name="Arc 127"/>
              <p:cNvSpPr/>
              <p:nvPr/>
            </p:nvSpPr>
            <p:spPr>
              <a:xfrm flipH="1">
                <a:off x="6708960" y="160560"/>
                <a:ext cx="948600" cy="1181880"/>
              </a:xfrm>
              <a:custGeom>
                <a:avLst/>
                <a:gdLst/>
                <a:ahLst/>
                <a:rect l="l" t="t" r="r" b="b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lnTo>
                      <a:pt x="-1" y="1001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" name="Arc 128"/>
              <p:cNvSpPr/>
              <p:nvPr/>
            </p:nvSpPr>
            <p:spPr>
              <a:xfrm>
                <a:off x="7722360" y="657000"/>
                <a:ext cx="391320" cy="1182960"/>
              </a:xfrm>
              <a:custGeom>
                <a:avLst/>
                <a:gdLst/>
                <a:ahLst/>
                <a:rect l="l" t="t" r="r" b="b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" name="Freeform 129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" name="Freeform 130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5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" name="Freeform 133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8" name="Freeform 134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9" name="Freeform 135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0" name="Freeform 136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ACC49-5D11-47CC-B8A8-7A12FFCA73B8}" type="slidenum">
              <a:rPr b="0" lang="ru-RU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2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453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55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56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7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dt" idx="19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ftr" idx="20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sldNum" idx="21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AB40C-08D4-4896-A434-FF5D5D4EE7D0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 type="ftr" idx="2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 type="sldNum" idx="2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0D2FF-4666-4687-98DA-7F0CC5EB6DC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Line 6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Line 7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12" name="Group 8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513" name="Rectangle 9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Rectangle 10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Rectangle 11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Rectangle 12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Rectangle 13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Rectangle 14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Rectangle 15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Rectangle 16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Rectangle 17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Rectangle 18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Rectangle 19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Rectangle 20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Rectangle 21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26" name="PlaceHolder 5"/>
          <p:cNvSpPr>
            <a:spLocks noGrp="1"/>
          </p:cNvSpPr>
          <p:nvPr>
            <p:ph type="dt" idx="2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3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64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5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6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7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8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9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0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707CF-4FB5-4E9C-BE57-0503AC3ACBC5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97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09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2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3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6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5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8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49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ru.wikipedia.org/wiki/1978_&#1075;&#1086;&#1076;" TargetMode="External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1" name="Picture 10" descr="paint5"/>
          <p:cNvPicPr/>
          <p:nvPr/>
        </p:nvPicPr>
        <p:blipFill>
          <a:blip r:embed="rId1"/>
          <a:stretch/>
        </p:blipFill>
        <p:spPr>
          <a:xfrm>
            <a:off x="395280" y="549360"/>
            <a:ext cx="4284720" cy="5759280"/>
          </a:xfrm>
          <a:prstGeom prst="rect">
            <a:avLst/>
          </a:prstGeom>
          <a:ln w="0">
            <a:noFill/>
          </a:ln>
        </p:spPr>
      </p:pic>
      <p:sp>
        <p:nvSpPr>
          <p:cNvPr id="2262" name="WordArt 11"/>
          <p:cNvSpPr txBox="1"/>
          <p:nvPr/>
        </p:nvSpPr>
        <p:spPr>
          <a:xfrm>
            <a:off x="4859280" y="1557360"/>
            <a:ext cx="3998880" cy="27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Андрей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Андреевич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ознесенский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263" name="WordArt 12"/>
          <p:cNvSpPr txBox="1"/>
          <p:nvPr/>
        </p:nvSpPr>
        <p:spPr>
          <a:xfrm>
            <a:off x="5867280" y="4869000"/>
            <a:ext cx="22100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1933-2010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2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2b2b2"/>
                </a:solidFill>
                <a:latin typeface="Arial"/>
              </a:rPr>
              <a:t>«Дружба навеки»</a:t>
            </a:r>
            <a:br>
              <a:rPr sz="4000"/>
            </a:br>
            <a:r>
              <a:rPr b="0" lang="ru-RU" sz="4000" spc="-1" strike="noStrike">
                <a:solidFill>
                  <a:srgbClr val="b2b2b2"/>
                </a:solidFill>
                <a:latin typeface="Arial"/>
              </a:rPr>
              <a:t>Тишинская площадь в Москве 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2298" name="Picture 4" descr="unnamed"/>
          <p:cNvPicPr/>
          <p:nvPr/>
        </p:nvPicPr>
        <p:blipFill>
          <a:blip r:embed="rId1"/>
          <a:stretch/>
        </p:blipFill>
        <p:spPr>
          <a:xfrm>
            <a:off x="5651640" y="1916280"/>
            <a:ext cx="2881080" cy="3960720"/>
          </a:xfrm>
          <a:prstGeom prst="rect">
            <a:avLst/>
          </a:prstGeom>
          <a:ln w="0">
            <a:noFill/>
          </a:ln>
        </p:spPr>
      </p:pic>
      <p:pic>
        <p:nvPicPr>
          <p:cNvPr id="2299" name="Picture 5" descr="4e527de3bb212"/>
          <p:cNvPicPr/>
          <p:nvPr/>
        </p:nvPicPr>
        <p:blipFill>
          <a:blip r:embed="rId2"/>
          <a:stretch/>
        </p:blipFill>
        <p:spPr>
          <a:xfrm>
            <a:off x="1476360" y="1844640"/>
            <a:ext cx="3048120" cy="4064040"/>
          </a:xfrm>
          <a:prstGeom prst="rect">
            <a:avLst/>
          </a:prstGeom>
          <a:ln w="0">
            <a:noFill/>
          </a:ln>
        </p:spPr>
      </p:pic>
      <p:sp>
        <p:nvSpPr>
          <p:cNvPr id="230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22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2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900" fill="hold"/>
                                        <p:tgtEl>
                                          <p:spTgt spid="2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22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2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900" fill="hold"/>
                                        <p:tgtEl>
                                          <p:spTgt spid="2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1" name="Picture 7" descr="633220"/>
          <p:cNvPicPr/>
          <p:nvPr/>
        </p:nvPicPr>
        <p:blipFill>
          <a:blip r:embed="rId1"/>
          <a:stretch/>
        </p:blipFill>
        <p:spPr>
          <a:xfrm>
            <a:off x="6588000" y="333360"/>
            <a:ext cx="2411640" cy="2411280"/>
          </a:xfrm>
          <a:prstGeom prst="rect">
            <a:avLst/>
          </a:prstGeom>
          <a:ln w="0">
            <a:noFill/>
          </a:ln>
        </p:spPr>
      </p:pic>
      <p:pic>
        <p:nvPicPr>
          <p:cNvPr id="2302" name="Picture 8" descr="23ce7d125755d0044b4fb9b8d0f73d28"/>
          <p:cNvPicPr/>
          <p:nvPr/>
        </p:nvPicPr>
        <p:blipFill>
          <a:blip r:embed="rId2"/>
          <a:stretch/>
        </p:blipFill>
        <p:spPr>
          <a:xfrm>
            <a:off x="3635280" y="3357720"/>
            <a:ext cx="2363760" cy="3357360"/>
          </a:xfrm>
          <a:prstGeom prst="rect">
            <a:avLst/>
          </a:prstGeom>
          <a:ln w="0">
            <a:noFill/>
          </a:ln>
        </p:spPr>
      </p:pic>
      <p:pic>
        <p:nvPicPr>
          <p:cNvPr id="2303" name="Picture 4" descr="yap5"/>
          <p:cNvPicPr/>
          <p:nvPr/>
        </p:nvPicPr>
        <p:blipFill>
          <a:blip r:embed="rId3"/>
          <a:stretch/>
        </p:blipFill>
        <p:spPr>
          <a:xfrm>
            <a:off x="395280" y="2060640"/>
            <a:ext cx="2448000" cy="2442960"/>
          </a:xfrm>
          <a:prstGeom prst="rect">
            <a:avLst/>
          </a:prstGeom>
          <a:ln w="0">
            <a:noFill/>
          </a:ln>
        </p:spPr>
      </p:pic>
      <p:sp>
        <p:nvSpPr>
          <p:cNvPr id="2304" name="WordArt 5"/>
          <p:cNvSpPr txBox="1"/>
          <p:nvPr/>
        </p:nvSpPr>
        <p:spPr>
          <a:xfrm>
            <a:off x="1116000" y="333360"/>
            <a:ext cx="67690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Авторы популярных эстрадных песен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на стихи Вознесенского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305" name="WordArt 9"/>
          <p:cNvSpPr txBox="1"/>
          <p:nvPr/>
        </p:nvSpPr>
        <p:spPr>
          <a:xfrm>
            <a:off x="468360" y="5013360"/>
            <a:ext cx="244800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А.Пугачёва-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"Миллион алых роз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306" name="WordArt 10"/>
          <p:cNvSpPr txBox="1"/>
          <p:nvPr/>
        </p:nvSpPr>
        <p:spPr>
          <a:xfrm>
            <a:off x="6335640" y="3213000"/>
            <a:ext cx="280836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Е.Осин-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"Плачет девушк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 автомате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307" name="AutoShape 13"/>
          <p:cNvSpPr/>
          <p:nvPr/>
        </p:nvSpPr>
        <p:spPr>
          <a:xfrm>
            <a:off x="1403280" y="4508640"/>
            <a:ext cx="432000" cy="431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66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8" name="AutoShape 14"/>
          <p:cNvSpPr/>
          <p:nvPr/>
        </p:nvSpPr>
        <p:spPr>
          <a:xfrm>
            <a:off x="7524720" y="2781360"/>
            <a:ext cx="287280" cy="288720"/>
          </a:xfrm>
          <a:prstGeom prst="downArrow">
            <a:avLst>
              <a:gd name="adj1" fmla="val 50000"/>
              <a:gd name="adj2" fmla="val 25125"/>
            </a:avLst>
          </a:prstGeom>
          <a:solidFill>
            <a:srgbClr val="66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9" name="WordArt 15"/>
          <p:cNvSpPr txBox="1"/>
          <p:nvPr/>
        </p:nvSpPr>
        <p:spPr>
          <a:xfrm>
            <a:off x="3708360" y="1557360"/>
            <a:ext cx="216072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Н.Гнатюк-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"Танец на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барабане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310" name="AutoShape 16"/>
          <p:cNvSpPr/>
          <p:nvPr/>
        </p:nvSpPr>
        <p:spPr>
          <a:xfrm>
            <a:off x="4572000" y="2637000"/>
            <a:ext cx="358920" cy="2872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66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2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2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2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2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2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2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2" name="Picture 4" descr="79706224_voznes_kedr_pastern_royaljpg"/>
          <p:cNvPicPr/>
          <p:nvPr/>
        </p:nvPicPr>
        <p:blipFill>
          <a:blip r:embed="rId1"/>
          <a:stretch/>
        </p:blipFill>
        <p:spPr>
          <a:xfrm>
            <a:off x="5292720" y="1268280"/>
            <a:ext cx="3490920" cy="2589480"/>
          </a:xfrm>
          <a:prstGeom prst="rect">
            <a:avLst/>
          </a:prstGeom>
          <a:ln w="0">
            <a:noFill/>
          </a:ln>
        </p:spPr>
      </p:pic>
      <p:pic>
        <p:nvPicPr>
          <p:cNvPr id="2313" name="Picture 5" descr="3870"/>
          <p:cNvPicPr/>
          <p:nvPr/>
        </p:nvPicPr>
        <p:blipFill>
          <a:blip r:embed="rId2"/>
          <a:stretch/>
        </p:blipFill>
        <p:spPr>
          <a:xfrm>
            <a:off x="3203640" y="3878280"/>
            <a:ext cx="3313080" cy="2909880"/>
          </a:xfrm>
          <a:prstGeom prst="rect">
            <a:avLst/>
          </a:prstGeom>
          <a:ln w="0">
            <a:noFill/>
          </a:ln>
        </p:spPr>
      </p:pic>
      <p:pic>
        <p:nvPicPr>
          <p:cNvPr id="2314" name="Picture 6" descr="news-kedrov_200906050156412"/>
          <p:cNvPicPr/>
          <p:nvPr/>
        </p:nvPicPr>
        <p:blipFill>
          <a:blip r:embed="rId3"/>
          <a:stretch/>
        </p:blipFill>
        <p:spPr>
          <a:xfrm>
            <a:off x="468360" y="1341360"/>
            <a:ext cx="3382920" cy="2536920"/>
          </a:xfrm>
          <a:prstGeom prst="rect">
            <a:avLst/>
          </a:prstGeom>
          <a:ln w="0">
            <a:noFill/>
          </a:ln>
        </p:spPr>
      </p:pic>
      <p:sp>
        <p:nvSpPr>
          <p:cNvPr id="23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imes New Roman"/>
              </a:rPr>
              <a:t>Жизнь в Переделкино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16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2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2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2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2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2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2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2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2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2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2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2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2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7" name="PlaceHolder 1"/>
          <p:cNvSpPr>
            <a:spLocks noGrp="1"/>
          </p:cNvSpPr>
          <p:nvPr>
            <p:ph type="title"/>
          </p:nvPr>
        </p:nvSpPr>
        <p:spPr>
          <a:xfrm>
            <a:off x="178920" y="620640"/>
            <a:ext cx="8713800" cy="1152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9efee"/>
                </a:solidFill>
                <a:latin typeface="Garamond"/>
              </a:rPr>
              <a:t>Президент РФ Д.А.Медведев вручает Вознесенскому Орден «За заслуги перед Отечеством» II степени 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2318" name="Picture 4" descr="poet0106"/>
          <p:cNvPicPr/>
          <p:nvPr/>
        </p:nvPicPr>
        <p:blipFill>
          <a:blip r:embed="rId1"/>
          <a:stretch/>
        </p:blipFill>
        <p:spPr>
          <a:xfrm>
            <a:off x="1979640" y="2349360"/>
            <a:ext cx="5545080" cy="4157640"/>
          </a:xfrm>
          <a:prstGeom prst="rect">
            <a:avLst/>
          </a:prstGeom>
          <a:ln w="0">
            <a:noFill/>
          </a:ln>
        </p:spPr>
      </p:pic>
      <p:sp>
        <p:nvSpPr>
          <p:cNvPr id="23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23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2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900" fill="hold"/>
                                        <p:tgtEl>
                                          <p:spTgt spid="2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Скончался 1 июня 2010 года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21" name="Picture 4" descr="1275473529502283"/>
          <p:cNvPicPr/>
          <p:nvPr/>
        </p:nvPicPr>
        <p:blipFill>
          <a:blip r:embed="rId1"/>
          <a:stretch/>
        </p:blipFill>
        <p:spPr>
          <a:xfrm>
            <a:off x="1692360" y="2133720"/>
            <a:ext cx="5832360" cy="3882960"/>
          </a:xfrm>
          <a:prstGeom prst="rect">
            <a:avLst/>
          </a:prstGeom>
          <a:ln w="0">
            <a:noFill/>
          </a:ln>
        </p:spPr>
      </p:pic>
      <p:sp>
        <p:nvSpPr>
          <p:cNvPr id="2322" name="Місце для нижнього колонтитула 1"/>
          <p:cNvSpPr/>
          <p:nvPr/>
        </p:nvSpPr>
        <p:spPr>
          <a:xfrm>
            <a:off x="3238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cc66"/>
                </a:solidFill>
                <a:latin typeface="Arial"/>
              </a:rPr>
              <a:t>Могила Андрея Андреевича</a:t>
            </a:r>
            <a:r>
              <a:rPr b="0" lang="ru-RU" sz="4400" spc="-1" strike="noStrike">
                <a:solidFill>
                  <a:srgbClr val="c0c0c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24" name="Picture 4" descr="voznesenskiy-andrei3"/>
          <p:cNvPicPr/>
          <p:nvPr/>
        </p:nvPicPr>
        <p:blipFill>
          <a:blip r:embed="rId1"/>
          <a:stretch/>
        </p:blipFill>
        <p:spPr>
          <a:xfrm>
            <a:off x="4572000" y="2349360"/>
            <a:ext cx="4176720" cy="3133800"/>
          </a:xfrm>
          <a:prstGeom prst="rect">
            <a:avLst/>
          </a:prstGeom>
          <a:ln w="0">
            <a:noFill/>
          </a:ln>
        </p:spPr>
      </p:pic>
      <p:pic>
        <p:nvPicPr>
          <p:cNvPr id="2325" name="Picture 5" descr="43116_64295_f"/>
          <p:cNvPicPr/>
          <p:nvPr/>
        </p:nvPicPr>
        <p:blipFill>
          <a:blip r:embed="rId2"/>
          <a:stretch/>
        </p:blipFill>
        <p:spPr>
          <a:xfrm>
            <a:off x="755640" y="1773360"/>
            <a:ext cx="3348000" cy="4464000"/>
          </a:xfrm>
          <a:prstGeom prst="rect">
            <a:avLst/>
          </a:prstGeom>
          <a:ln w="0">
            <a:noFill/>
          </a:ln>
        </p:spPr>
      </p:pic>
      <p:sp>
        <p:nvSpPr>
          <p:cNvPr id="2326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7" name="Picture 4" descr="Voznesenskii2"/>
          <p:cNvPicPr/>
          <p:nvPr/>
        </p:nvPicPr>
        <p:blipFill>
          <a:blip r:embed="rId1"/>
          <a:stretch/>
        </p:blipFill>
        <p:spPr>
          <a:xfrm>
            <a:off x="2124000" y="189000"/>
            <a:ext cx="4937040" cy="6408720"/>
          </a:xfrm>
          <a:prstGeom prst="rect">
            <a:avLst/>
          </a:prstGeom>
          <a:ln w="0">
            <a:noFill/>
          </a:ln>
        </p:spPr>
      </p:pic>
      <p:sp>
        <p:nvSpPr>
          <p:cNvPr id="232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9" name="Picture 4" descr="59897034_Voznesenskiy_"/>
          <p:cNvPicPr/>
          <p:nvPr/>
        </p:nvPicPr>
        <p:blipFill>
          <a:blip r:embed="rId1"/>
          <a:stretch/>
        </p:blipFill>
        <p:spPr>
          <a:xfrm>
            <a:off x="2195640" y="189000"/>
            <a:ext cx="5030640" cy="6524640"/>
          </a:xfrm>
          <a:prstGeom prst="rect">
            <a:avLst/>
          </a:prstGeom>
          <a:ln w="0">
            <a:noFill/>
          </a:ln>
        </p:spPr>
      </p:pic>
      <p:sp>
        <p:nvSpPr>
          <p:cNvPr id="233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1" name="Picture 4" descr="35-50-1b"/>
          <p:cNvPicPr/>
          <p:nvPr/>
        </p:nvPicPr>
        <p:blipFill>
          <a:blip r:embed="rId1"/>
          <a:stretch/>
        </p:blipFill>
        <p:spPr>
          <a:xfrm>
            <a:off x="1258920" y="260280"/>
            <a:ext cx="6912000" cy="6272280"/>
          </a:xfrm>
          <a:prstGeom prst="rect">
            <a:avLst/>
          </a:prstGeom>
          <a:ln w="0">
            <a:noFill/>
          </a:ln>
        </p:spPr>
      </p:pic>
      <p:sp>
        <p:nvSpPr>
          <p:cNvPr id="23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3" name="Picture 4" descr="336161768"/>
          <p:cNvPicPr/>
          <p:nvPr/>
        </p:nvPicPr>
        <p:blipFill>
          <a:blip r:embed="rId1"/>
          <a:stretch/>
        </p:blipFill>
        <p:spPr>
          <a:xfrm>
            <a:off x="2190600" y="81000"/>
            <a:ext cx="4762800" cy="6696000"/>
          </a:xfrm>
          <a:prstGeom prst="rect">
            <a:avLst/>
          </a:prstGeom>
          <a:ln w="0">
            <a:noFill/>
          </a:ln>
        </p:spPr>
      </p:pic>
      <p:sp>
        <p:nvSpPr>
          <p:cNvPr id="23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5" name="Picture 5" descr="a-voz"/>
          <p:cNvPicPr/>
          <p:nvPr/>
        </p:nvPicPr>
        <p:blipFill>
          <a:blip r:embed="rId1"/>
          <a:stretch/>
        </p:blipFill>
        <p:spPr>
          <a:xfrm>
            <a:off x="395280" y="260280"/>
            <a:ext cx="4668840" cy="6308640"/>
          </a:xfrm>
          <a:prstGeom prst="rect">
            <a:avLst/>
          </a:prstGeom>
          <a:ln w="0">
            <a:noFill/>
          </a:ln>
        </p:spPr>
      </p:pic>
      <p:sp>
        <p:nvSpPr>
          <p:cNvPr id="2266" name="WordArt 6"/>
          <p:cNvSpPr txBox="1"/>
          <p:nvPr/>
        </p:nvSpPr>
        <p:spPr>
          <a:xfrm>
            <a:off x="5219640" y="1916280"/>
            <a:ext cx="3745080" cy="27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Будущий поэ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Андрей Вознесенский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с отцом Андреем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Николаевичем 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сестрой Натальей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2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2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900" fill="hold"/>
                                        <p:tgtEl>
                                          <p:spTgt spid="2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8" name="Picture 4" descr="001"/>
          <p:cNvPicPr/>
          <p:nvPr/>
        </p:nvPicPr>
        <p:blipFill>
          <a:blip r:embed="rId1"/>
          <a:stretch/>
        </p:blipFill>
        <p:spPr>
          <a:xfrm>
            <a:off x="4721400" y="333360"/>
            <a:ext cx="4152600" cy="6191280"/>
          </a:xfrm>
          <a:prstGeom prst="rect">
            <a:avLst/>
          </a:prstGeom>
          <a:ln w="0">
            <a:noFill/>
          </a:ln>
        </p:spPr>
      </p:pic>
      <p:sp>
        <p:nvSpPr>
          <p:cNvPr id="2269" name="WordArt 5"/>
          <p:cNvSpPr txBox="1"/>
          <p:nvPr/>
        </p:nvSpPr>
        <p:spPr>
          <a:xfrm>
            <a:off x="468360" y="1557360"/>
            <a:ext cx="4174920" cy="36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1957год -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кончание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Московского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архитектурного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института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2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1" name="Picture 4" descr="1287698477724448"/>
          <p:cNvPicPr/>
          <p:nvPr/>
        </p:nvPicPr>
        <p:blipFill>
          <a:blip r:embed="rId1"/>
          <a:stretch/>
        </p:blipFill>
        <p:spPr>
          <a:xfrm>
            <a:off x="611280" y="189000"/>
            <a:ext cx="3529080" cy="2417760"/>
          </a:xfrm>
          <a:prstGeom prst="rect">
            <a:avLst/>
          </a:prstGeom>
          <a:ln w="0">
            <a:noFill/>
          </a:ln>
        </p:spPr>
      </p:pic>
      <p:pic>
        <p:nvPicPr>
          <p:cNvPr id="2272" name="Picture 5" descr="1077569"/>
          <p:cNvPicPr/>
          <p:nvPr/>
        </p:nvPicPr>
        <p:blipFill>
          <a:blip r:embed="rId2"/>
          <a:stretch/>
        </p:blipFill>
        <p:spPr>
          <a:xfrm>
            <a:off x="395280" y="2781360"/>
            <a:ext cx="2803680" cy="3736800"/>
          </a:xfrm>
          <a:prstGeom prst="rect">
            <a:avLst/>
          </a:prstGeom>
          <a:ln w="0">
            <a:noFill/>
          </a:ln>
        </p:spPr>
      </p:pic>
      <p:pic>
        <p:nvPicPr>
          <p:cNvPr id="2273" name="Picture 6" descr="5b8015e7"/>
          <p:cNvPicPr/>
          <p:nvPr/>
        </p:nvPicPr>
        <p:blipFill>
          <a:blip r:embed="rId3"/>
          <a:stretch/>
        </p:blipFill>
        <p:spPr>
          <a:xfrm>
            <a:off x="5076720" y="189000"/>
            <a:ext cx="3529080" cy="2363760"/>
          </a:xfrm>
          <a:prstGeom prst="rect">
            <a:avLst/>
          </a:prstGeom>
          <a:ln w="0">
            <a:noFill/>
          </a:ln>
        </p:spPr>
      </p:pic>
      <p:pic>
        <p:nvPicPr>
          <p:cNvPr id="2274" name="Picture 7" descr="voznesenskiy"/>
          <p:cNvPicPr/>
          <p:nvPr/>
        </p:nvPicPr>
        <p:blipFill>
          <a:blip r:embed="rId4"/>
          <a:stretch/>
        </p:blipFill>
        <p:spPr>
          <a:xfrm>
            <a:off x="6137280" y="2781360"/>
            <a:ext cx="2741760" cy="3787560"/>
          </a:xfrm>
          <a:prstGeom prst="rect">
            <a:avLst/>
          </a:prstGeom>
          <a:ln w="0">
            <a:noFill/>
          </a:ln>
        </p:spPr>
      </p:pic>
      <p:sp>
        <p:nvSpPr>
          <p:cNvPr id="2275" name="WordArt 8"/>
          <p:cNvSpPr txBox="1"/>
          <p:nvPr/>
        </p:nvSpPr>
        <p:spPr>
          <a:xfrm>
            <a:off x="3419640" y="2997360"/>
            <a:ext cx="2519280" cy="194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ознесенски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и его жена Зо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Богуславская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27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77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" dur="770" fill="hold"/>
                                        <p:tgtEl>
                                          <p:spTgt spid="227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8" dur="770" fill="hold"/>
                                        <p:tgtEl>
                                          <p:spTgt spid="2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0" dur="770" fill="hold"/>
                                        <p:tgtEl>
                                          <p:spTgt spid="2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77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7" dur="770" fill="hold"/>
                                        <p:tgtEl>
                                          <p:spTgt spid="227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9" dur="770" fill="hold"/>
                                        <p:tgtEl>
                                          <p:spTgt spid="2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1" dur="770" fill="hold"/>
                                        <p:tgtEl>
                                          <p:spTgt spid="2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77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8" dur="770" fill="hold"/>
                                        <p:tgtEl>
                                          <p:spTgt spid="227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0" dur="770" fill="hold"/>
                                        <p:tgtEl>
                                          <p:spTgt spid="2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2" dur="770" fill="hold"/>
                                        <p:tgtEl>
                                          <p:spTgt spid="2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770"/>
                                        <p:tgtEl>
                                          <p:spTgt spid="22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9" dur="770" fill="hold"/>
                                        <p:tgtEl>
                                          <p:spTgt spid="227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7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1" dur="770" fill="hold"/>
                                        <p:tgtEl>
                                          <p:spTgt spid="2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3" dur="770" fill="hold"/>
                                        <p:tgtEl>
                                          <p:spTgt spid="2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7" name="Picture 4" descr="9785264005480"/>
          <p:cNvPicPr/>
          <p:nvPr/>
        </p:nvPicPr>
        <p:blipFill>
          <a:blip r:embed="rId1"/>
          <a:stretch/>
        </p:blipFill>
        <p:spPr>
          <a:xfrm>
            <a:off x="611280" y="1125360"/>
            <a:ext cx="2347920" cy="3184560"/>
          </a:xfrm>
          <a:prstGeom prst="rect">
            <a:avLst/>
          </a:prstGeom>
          <a:ln w="0">
            <a:noFill/>
          </a:ln>
        </p:spPr>
      </p:pic>
      <p:pic>
        <p:nvPicPr>
          <p:cNvPr id="2278" name="Picture 5" descr="paint2"/>
          <p:cNvPicPr/>
          <p:nvPr/>
        </p:nvPicPr>
        <p:blipFill>
          <a:blip r:embed="rId2"/>
          <a:stretch/>
        </p:blipFill>
        <p:spPr>
          <a:xfrm>
            <a:off x="6156360" y="1268280"/>
            <a:ext cx="2617920" cy="3311640"/>
          </a:xfrm>
          <a:prstGeom prst="rect">
            <a:avLst/>
          </a:prstGeom>
          <a:ln w="0">
            <a:noFill/>
          </a:ln>
        </p:spPr>
      </p:pic>
      <p:pic>
        <p:nvPicPr>
          <p:cNvPr id="2279" name="Picture 7" descr="1002559481"/>
          <p:cNvPicPr/>
          <p:nvPr/>
        </p:nvPicPr>
        <p:blipFill>
          <a:blip r:embed="rId3"/>
          <a:stretch/>
        </p:blipFill>
        <p:spPr>
          <a:xfrm>
            <a:off x="3419640" y="2924280"/>
            <a:ext cx="2539800" cy="3543120"/>
          </a:xfrm>
          <a:prstGeom prst="rect">
            <a:avLst/>
          </a:prstGeom>
          <a:ln w="0">
            <a:noFill/>
          </a:ln>
        </p:spPr>
      </p:pic>
      <p:sp>
        <p:nvSpPr>
          <p:cNvPr id="2280" name="WordArt 8"/>
          <p:cNvSpPr txBox="1"/>
          <p:nvPr/>
        </p:nvSpPr>
        <p:spPr>
          <a:xfrm>
            <a:off x="2916360" y="260280"/>
            <a:ext cx="40320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3399"/>
                </a:solidFill>
                <a:latin typeface="Arial"/>
              </a:rPr>
              <a:t>Первые сборники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3399"/>
              </a:solidFill>
              <a:latin typeface="Arial"/>
              <a:ea typeface="Arial"/>
            </a:endParaRPr>
          </a:p>
        </p:txBody>
      </p:sp>
      <p:sp>
        <p:nvSpPr>
          <p:cNvPr id="22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0" dur="1000" fill="hold"/>
                                        <p:tgtEl>
                                          <p:spTgt spid="2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4" dur="1000" fill="hold"/>
                                        <p:tgtEl>
                                          <p:spTgt spid="2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8" dur="1000" fill="hold"/>
                                        <p:tgtEl>
                                          <p:spTgt spid="2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2" name="Picture 4" descr="7197_voznes"/>
          <p:cNvPicPr/>
          <p:nvPr/>
        </p:nvPicPr>
        <p:blipFill>
          <a:blip r:embed="rId1"/>
          <a:stretch/>
        </p:blipFill>
        <p:spPr>
          <a:xfrm>
            <a:off x="250920" y="692280"/>
            <a:ext cx="3470040" cy="5329080"/>
          </a:xfrm>
          <a:prstGeom prst="rect">
            <a:avLst/>
          </a:prstGeom>
          <a:ln w="0">
            <a:noFill/>
          </a:ln>
        </p:spPr>
      </p:pic>
      <p:sp>
        <p:nvSpPr>
          <p:cNvPr id="2283" name="PlaceHolder 1"/>
          <p:cNvSpPr>
            <a:spLocks noGrp="1"/>
          </p:cNvSpPr>
          <p:nvPr>
            <p:ph/>
          </p:nvPr>
        </p:nvSpPr>
        <p:spPr>
          <a:xfrm>
            <a:off x="2987640" y="2268000"/>
            <a:ext cx="5905440" cy="26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Пожар в Архитектурном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Пылайте широко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Коровники в амурах,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Райклубы в рококо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Николай Ушаков «Модный поэт»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86" name="PlaceHolder 2"/>
          <p:cNvSpPr>
            <a:spLocks noGrp="1"/>
          </p:cNvSpPr>
          <p:nvPr>
            <p:ph/>
          </p:nvPr>
        </p:nvSpPr>
        <p:spPr>
          <a:xfrm>
            <a:off x="178920" y="2743200"/>
            <a:ext cx="5977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Он сменною модой недельной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Когда-то пленял молодёжь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Так что ж ты, цветок рукодельный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Сегодня не модно цветёшь?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87" name="Picture 4" descr="ushakov_a00095dc"/>
          <p:cNvPicPr/>
          <p:nvPr/>
        </p:nvPicPr>
        <p:blipFill>
          <a:blip r:embed="rId1"/>
          <a:stretch/>
        </p:blipFill>
        <p:spPr>
          <a:xfrm>
            <a:off x="6156360" y="2492280"/>
            <a:ext cx="2701800" cy="3529080"/>
          </a:xfrm>
          <a:prstGeom prst="rect">
            <a:avLst/>
          </a:prstGeom>
          <a:ln w="0">
            <a:noFill/>
          </a:ln>
        </p:spPr>
      </p:pic>
      <p:sp>
        <p:nvSpPr>
          <p:cNvPr id="2288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9" name="Picture 4" descr="229DA8BC1E82537AE38B415E1B6CC6"/>
          <p:cNvPicPr/>
          <p:nvPr/>
        </p:nvPicPr>
        <p:blipFill>
          <a:blip r:embed="rId1"/>
          <a:stretch/>
        </p:blipFill>
        <p:spPr>
          <a:xfrm>
            <a:off x="468360" y="189000"/>
            <a:ext cx="2298600" cy="3816360"/>
          </a:xfrm>
          <a:prstGeom prst="rect">
            <a:avLst/>
          </a:prstGeom>
          <a:ln w="0">
            <a:noFill/>
          </a:ln>
        </p:spPr>
      </p:pic>
      <p:pic>
        <p:nvPicPr>
          <p:cNvPr id="2290" name="Picture 5" descr="andrey_voznesenskiy_foto_mk_18"/>
          <p:cNvPicPr/>
          <p:nvPr/>
        </p:nvPicPr>
        <p:blipFill>
          <a:blip r:embed="rId2"/>
          <a:stretch/>
        </p:blipFill>
        <p:spPr>
          <a:xfrm>
            <a:off x="6372360" y="3284640"/>
            <a:ext cx="2409840" cy="3319200"/>
          </a:xfrm>
          <a:prstGeom prst="rect">
            <a:avLst/>
          </a:prstGeom>
          <a:ln w="0">
            <a:noFill/>
          </a:ln>
        </p:spPr>
      </p:pic>
      <p:pic>
        <p:nvPicPr>
          <p:cNvPr id="2291" name="Picture 6" descr="05f9a605d8d47b169d4aeb245e6"/>
          <p:cNvPicPr/>
          <p:nvPr/>
        </p:nvPicPr>
        <p:blipFill>
          <a:blip r:embed="rId3"/>
          <a:stretch/>
        </p:blipFill>
        <p:spPr>
          <a:xfrm>
            <a:off x="2916360" y="2205000"/>
            <a:ext cx="3262320" cy="3451320"/>
          </a:xfrm>
          <a:prstGeom prst="rect">
            <a:avLst/>
          </a:prstGeom>
          <a:ln w="0">
            <a:noFill/>
          </a:ln>
        </p:spPr>
      </p:pic>
      <p:sp>
        <p:nvSpPr>
          <p:cNvPr id="2292" name="WordArt 7"/>
          <p:cNvSpPr txBox="1"/>
          <p:nvPr/>
        </p:nvSpPr>
        <p:spPr>
          <a:xfrm>
            <a:off x="4716360" y="115920"/>
            <a:ext cx="3868920" cy="191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Андрей Андреевич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гастролирует 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293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2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2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2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4" name="PlaceHolder 1"/>
          <p:cNvSpPr>
            <a:spLocks noGrp="1"/>
          </p:cNvSpPr>
          <p:nvPr>
            <p:ph/>
          </p:nvPr>
        </p:nvSpPr>
        <p:spPr>
          <a:xfrm>
            <a:off x="179280" y="1844640"/>
            <a:ext cx="417672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400" spc="-1" strike="noStrike">
                <a:solidFill>
                  <a:srgbClr val="ffffff"/>
                </a:solidFill>
                <a:latin typeface="Arial"/>
              </a:rPr>
              <a:t>Вознесенский получил в </a:t>
            </a:r>
            <a:r>
              <a:rPr b="0" lang="ru-RU" sz="3400" spc="-1" strike="noStrike" u="sng">
                <a:solidFill>
                  <a:srgbClr val="ff7c80"/>
                </a:solidFill>
                <a:uFillTx/>
                <a:latin typeface="Arial"/>
                <a:hlinkClick r:id="rId1"/>
              </a:rPr>
              <a:t>1978 году</a:t>
            </a:r>
            <a:r>
              <a:rPr b="0" lang="ru-RU" sz="3400" spc="-1" strike="noStrike">
                <a:solidFill>
                  <a:srgbClr val="ffffff"/>
                </a:solidFill>
                <a:latin typeface="Arial"/>
              </a:rPr>
              <a:t> Государственную премию СССР.</a:t>
            </a:r>
            <a:br>
              <a:rPr sz="3400"/>
            </a:br>
            <a:br>
              <a:rPr sz="3400"/>
            </a:b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5" name="Picture 4" descr="1168d"/>
          <p:cNvPicPr/>
          <p:nvPr/>
        </p:nvPicPr>
        <p:blipFill>
          <a:blip r:embed="rId2"/>
          <a:stretch/>
        </p:blipFill>
        <p:spPr>
          <a:xfrm>
            <a:off x="4500720" y="981000"/>
            <a:ext cx="4309920" cy="4967280"/>
          </a:xfrm>
          <a:prstGeom prst="rect">
            <a:avLst/>
          </a:prstGeom>
          <a:ln w="0">
            <a:noFill/>
          </a:ln>
        </p:spPr>
      </p:pic>
      <p:sp>
        <p:nvSpPr>
          <p:cNvPr id="229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9T13:52:32Z</dcterms:created>
  <dc:creator>Вика</dc:creator>
  <dc:description/>
  <dc:language>en-US</dc:language>
  <cp:lastModifiedBy>LEGION</cp:lastModifiedBy>
  <dcterms:modified xsi:type="dcterms:W3CDTF">2015-01-20T13:41:14Z</dcterms:modified>
  <cp:revision>8</cp:revision>
  <dc:subject/>
  <dc:title>Слайд 1</dc:title>
</cp:coreProperties>
</file>